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7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A8A3-73AB-4D00-96D7-2BA8EF23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9A7-3F59-4B9C-B5E1-01B62249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8F78-43E0-489F-86AA-CC2B140F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D6B9-BAC8-417B-BE75-871EFBF6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EFB0-6F6F-4549-A49D-1B573EB8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C7CA-298D-4D83-AEE6-8383E28A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38B1-BC11-4DAF-AC98-447E9476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1608-4F14-4AB6-8D87-5E472861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7581-A01C-40B4-837C-1798F87A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22E7-3AB8-4D39-9D44-6B4B5FAD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E57E-F461-438D-AEE8-C8977FCE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8831-92BE-498C-B9BC-D0A40DA1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2D53-E834-45D8-B107-88B4593E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DFF4-5440-4EB5-A128-F95A88BD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208B-011E-4629-8425-C07CBEF9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F800-EB30-4DA6-855B-4DEAF95B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5C2F-5739-48DE-AF68-3A91ED25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08FC-B852-497E-B10A-321DD833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04A9-742B-405F-BC7B-D12ECECC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87F-AA21-4111-AD28-2CB723C3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D1C-4934-46C3-B657-499BD229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CAB-5BEB-4D0E-AFE8-F38B9F13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4C0-B291-4C09-BAC2-66875B1D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394-4FBD-48AC-9EB1-DF8C3DED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3F5D-FB68-4BEB-8F96-72F26276F4E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6C74-05DD-49E7-B151-EC4E640DC18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596960" y="298440"/>
            <a:ext cx="7096320" cy="3121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 начальных класс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У «СОШ № 2 г. СУЗДАЛЯ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I:\DCIM\101MSDCF\DSC00631.JPG"/>
          <p:cNvPicPr/>
          <p:nvPr/>
        </p:nvPicPr>
        <p:blipFill>
          <a:blip r:embed="rId2"/>
          <a:stretch/>
        </p:blipFill>
        <p:spPr>
          <a:xfrm>
            <a:off x="961920" y="1843200"/>
            <a:ext cx="3381480" cy="448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I:\DCIM\101MSDCF\DSC00633.JPG"/>
          <p:cNvPicPr/>
          <p:nvPr/>
        </p:nvPicPr>
        <p:blipFill>
          <a:blip r:embed="rId3"/>
          <a:stretch/>
        </p:blipFill>
        <p:spPr>
          <a:xfrm>
            <a:off x="4724280" y="1843200"/>
            <a:ext cx="345780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SC00644"/>
          <p:cNvPicPr/>
          <p:nvPr/>
        </p:nvPicPr>
        <p:blipFill>
          <a:blip r:embed="rId2"/>
          <a:stretch/>
        </p:blipFill>
        <p:spPr>
          <a:xfrm>
            <a:off x="1905120" y="1371600"/>
            <a:ext cx="5486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DSC00648"/>
          <p:cNvPicPr/>
          <p:nvPr/>
        </p:nvPicPr>
        <p:blipFill>
          <a:blip r:embed="rId2"/>
          <a:stretch/>
        </p:blipFill>
        <p:spPr>
          <a:xfrm>
            <a:off x="2438280" y="1219320"/>
            <a:ext cx="426744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DSC00640"/>
          <p:cNvPicPr/>
          <p:nvPr/>
        </p:nvPicPr>
        <p:blipFill>
          <a:blip r:embed="rId2"/>
          <a:stretch/>
        </p:blipFill>
        <p:spPr>
          <a:xfrm>
            <a:off x="304920" y="1371600"/>
            <a:ext cx="4267080" cy="5334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DSC00641"/>
          <p:cNvPicPr/>
          <p:nvPr/>
        </p:nvPicPr>
        <p:blipFill>
          <a:blip r:embed="rId3"/>
          <a:stretch/>
        </p:blipFill>
        <p:spPr>
          <a:xfrm>
            <a:off x="4800600" y="1371600"/>
            <a:ext cx="4210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DSC00645"/>
          <p:cNvPicPr/>
          <p:nvPr/>
        </p:nvPicPr>
        <p:blipFill>
          <a:blip r:embed="rId2"/>
          <a:stretch/>
        </p:blipFill>
        <p:spPr>
          <a:xfrm>
            <a:off x="228600" y="1295280"/>
            <a:ext cx="3809880" cy="5410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SC00638"/>
          <p:cNvPicPr/>
          <p:nvPr/>
        </p:nvPicPr>
        <p:blipFill>
          <a:blip r:embed="rId3"/>
          <a:stretch/>
        </p:blipFill>
        <p:spPr>
          <a:xfrm>
            <a:off x="4191120" y="2209680"/>
            <a:ext cx="48006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SC00650"/>
          <p:cNvPicPr/>
          <p:nvPr/>
        </p:nvPicPr>
        <p:blipFill>
          <a:blip r:embed="rId2"/>
          <a:stretch/>
        </p:blipFill>
        <p:spPr>
          <a:xfrm>
            <a:off x="2590920" y="114300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560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446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ливать тебя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81080" indent="-446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хаживать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81080" indent="-446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аблюдать за тобой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81080" indent="-446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ддерживать твои веточки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81080" indent="-446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добрять землю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81080" indent="-446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лечить тебя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81080" indent="-446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овремя убирать урожай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446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е ломать твои веточки и лазить по тебе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81080" indent="-446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збавлять тебя от насекомых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81080" indent="-446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весить кормушку и пригласить птиц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81080" indent="-446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любить, восхищаться и любоваться тобой во все времена года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882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настоящее время более актуальным становится использование в образовательном процессе приёмов и методов, которые формируют умения самостоятельно добывать новые знания, собирать необходимую информацию, умение выдвигать гипотезы, делать выводы и умозаключения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та проблема в начальной школе решается через организацию проектной деятельности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етод проектов составляет основу проектного обучения, смысл которого заключается в создании условий для самостоятельного усвоения школьниками учебного материала в процессе выполнения проектов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собое внимание стараюсь уделять единству и взаимодействию трёх сторон воспитательного процесса ученик – родители – учитель. Последний выступает в роли фасилитатора. Помогая детям двигаться шаг за шагом от простого к сложному, оставляя за собой возможность корректировать деятельность учащихся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течении учебного года проведена работа по организации проектов: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 « Это волшебное яблочко » ( сентябрь, октябрь 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 социальный проект « Малыш встречает Новый год » ( ноябрь, декабрь 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 « Моя семья » ( долгосрочный 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 музыкальный « Вот чему мы научились »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вожу пример презентации одного из проектов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882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38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связи с экологической обстановкой страны и нашего города, в частности, растёт необходимость более углублённого развития экологического воспитания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74600" indent="-38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данном проекте передо мной стала цель- прививать любовь к родному городу через наблюдение и изучение природы города, традиций древней старины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74600" indent="-38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Как помочь детям не только овладеть УУД(креативность, коммуникабельность, мобильность, гибкость), но и развивать творческие способности?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74600" indent="-38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Как научить детей уважению, заботе, терпеливости, сотрудничеству?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74600" indent="-38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ветить на эти вопросы частично помог праздник «Яблочный денёк»,который и натолкнул на мысль создания проекта «Это волшебное яблочко»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74600" indent="-38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74600" indent="-38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74600" indent="-38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1316160" y="60480"/>
            <a:ext cx="7377120" cy="2974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880" y="297144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imes New Roman"/>
              </a:rPr>
              <a:t>Цель: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способствовать развитию экологического мышления учащихся,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развивая навыки социального общения и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оспитывая бережное отношение к окружающей среде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225360" y="298440"/>
            <a:ext cx="8467920" cy="1457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    Развивать экологическое мышление детей ;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    Учить  взаимодействию, сотрудничеству, по установленным правилам работы в командах , группах ;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    Показать моменты положительного влияния на  экологическое состояние своего города;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    Воспитывать лучшие качества личности и  уважительное отношение к родному краю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882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50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Выбор темы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5680" indent="507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оведение праздника «Яблочный денёк»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85680" indent="507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ыставка книг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85680" indent="507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нкурс рисунков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85680" indent="507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нкурс поделок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85680" indent="507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аздничный стол с продуктами из яблок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85680" indent="50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Сбор сведений и  выбор темы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85680" indent="50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*Беседы, экскурсии, посещение Земской школы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85680" indent="50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*Рассматривание объяснительно-иллюстративного материала и обсуждение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85680" indent="507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Выставка продуктов Ефросиньевской ярмарки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85680" indent="507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96840" y="146160"/>
            <a:ext cx="8827920" cy="718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* Использование специальной литературы и подготовка  индивидуальных проект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* Оформление  эскиза грамоты  для награждений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* Презентация индивидуальных проект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73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здание коллективного продукта: папки с демонстративно-иллюстрационным материалом для внеклассных занятий и проведения праздника «Яблочный денёк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73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ллективное составление и оформление обещаний яблоньк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4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88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I:\DCIM\101MSDCF\DSC00635.JPG"/>
          <p:cNvPicPr/>
          <p:nvPr/>
        </p:nvPicPr>
        <p:blipFill>
          <a:blip r:embed="rId2"/>
          <a:stretch/>
        </p:blipFill>
        <p:spPr>
          <a:xfrm>
            <a:off x="1752480" y="1219320"/>
            <a:ext cx="502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-152280"/>
            <a:ext cx="8278920" cy="144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I:\DCIM\101MSDCF\DSC00634.JPG"/>
          <p:cNvPicPr/>
          <p:nvPr/>
        </p:nvPicPr>
        <p:blipFill>
          <a:blip r:embed="rId2"/>
          <a:stretch/>
        </p:blipFill>
        <p:spPr>
          <a:xfrm>
            <a:off x="1905120" y="1066680"/>
            <a:ext cx="5029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Б Класс</cp:lastModifiedBy>
  <dcterms:modified xsi:type="dcterms:W3CDTF">2011-06-08T09:42:47Z</dcterms:modified>
  <cp:revision>37</cp:revision>
  <dc:subject/>
  <dc:title>Козлова Галина Владимировна</dc:title>
</cp:coreProperties>
</file>